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507-1BD8-4FD2-9F82-B0202290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ABF-8275-4D51-9227-7A496E48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3F1-D2DE-49DB-A77C-BD4B3C9F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19D-912A-4861-9B09-99B4AD65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397-91F0-43F7-8054-6648E9CB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F35-3866-47F5-B65E-4C36E5B9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3B0-17C1-47BF-AC61-E93C321E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C413-2691-4528-A1F8-21371709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115-C700-4424-9207-687F1EE9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3D9-3704-4F3B-B2DD-AE5F8895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385-490F-471F-B7E2-4EFE477C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011-529A-49A2-B3C8-F208A1DE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1AB0-9E5B-41CA-BFAF-C4D9D9316F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outu.be/Q-l95jwT_S8" TargetMode="External"/><Relationship Id="rId2" Type="http://schemas.openxmlformats.org/officeDocument/2006/relationships/hyperlink" Target="https://youtu.be/Q-l95jwT_S8" TargetMode="External"/><Relationship Id="rId3" Type="http://schemas.openxmlformats.org/officeDocument/2006/relationships/hyperlink" Target="https://youtu.be/BA4UDyhu0gU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youtu.be/ZyOMX-l9W3o" TargetMode="External"/><Relationship Id="rId2" Type="http://schemas.openxmlformats.org/officeDocument/2006/relationships/hyperlink" Target="https://youtu.be/ZyOMX-l9W3o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youtu.be/4puLybRGSAw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tille_Nacht_(Silent_Night_).mp3" descr=""/>
          <p:cNvPicPr/>
          <p:nvPr/>
        </p:nvPicPr>
        <p:blipFill>
          <a:blip r:embed="rId1"/>
          <a:stretch/>
        </p:blipFill>
        <p:spPr>
          <a:xfrm>
            <a:off x="5410080" y="39085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4400" spc="-1" strike="noStrike">
                <a:solidFill>
                  <a:srgbClr val="800000"/>
                </a:solidFill>
                <a:latin typeface="Garamond"/>
                <a:ea typeface="Adobe Ming Std L"/>
              </a:rPr>
              <a:t>Uloga glazbe</a:t>
            </a:r>
            <a:br>
              <a:rPr sz="4400"/>
            </a:br>
            <a:r>
              <a:rPr b="0" lang="hr-BA" sz="4400" spc="-1" strike="noStrike">
                <a:solidFill>
                  <a:srgbClr val="800000"/>
                </a:solidFill>
                <a:latin typeface="Garamond"/>
                <a:ea typeface="Adobe Ming Std L"/>
              </a:rPr>
              <a:t> u božićnim blagdan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84000" y="5091120"/>
            <a:ext cx="40309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Slika 4" descr=""/>
          <p:cNvPicPr/>
          <p:nvPr/>
        </p:nvPicPr>
        <p:blipFill>
          <a:blip r:embed="rId2"/>
          <a:stretch/>
        </p:blipFill>
        <p:spPr>
          <a:xfrm>
            <a:off x="2484360" y="3421080"/>
            <a:ext cx="4030920" cy="211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Izradili: </a:t>
            </a:r>
            <a:br>
              <a:rPr sz="2800"/>
            </a:b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Učenici 7.a razreda</a:t>
            </a:r>
            <a:br>
              <a:rPr sz="2800"/>
            </a:b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OŠ Dore Pejačević Našice</a:t>
            </a:r>
            <a:br>
              <a:rPr sz="2800"/>
            </a:b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Mentorica: </a:t>
            </a:r>
            <a:br>
              <a:rPr sz="2800"/>
            </a:b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Mirjana Šutalo Vulić, prof. glazbene k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Našice, prosinac 2015.g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024360" cy="206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1600" y="8445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4400" spc="-1" strike="noStrike">
                <a:solidFill>
                  <a:srgbClr val="800000"/>
                </a:solidFill>
                <a:latin typeface="Garamond"/>
              </a:rPr>
              <a:t>Božićne pjes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Božićne pjesme govore 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Božiću, rođenju Isusa Kris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a pjevaju se tijek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kršćanskih božićni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blagdana, završno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blagdanom Sveta tri kral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859280" y="2355840"/>
            <a:ext cx="3540240" cy="2822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4400" spc="-1" strike="noStrike">
                <a:solidFill>
                  <a:srgbClr val="800000"/>
                </a:solidFill>
                <a:latin typeface="Garamond"/>
              </a:rPr>
              <a:t>Hrvatske božićne pje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Hrvatska je poznata po svojim brojnim i raznovrsnim božićnim pjesm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U božićnim se pjesmama izriču duboki i lijepi osjećaji koje narod doživljava u božićno vrij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Neke od hrvatskih božićnih pjesama su: </a:t>
            </a:r>
            <a:r>
              <a:rPr b="0" lang="hr-BA" sz="2800" spc="-1" strike="noStrike" u="sng">
                <a:solidFill>
                  <a:srgbClr val="c00000"/>
                </a:solidFill>
                <a:uFillTx/>
                <a:latin typeface="Garamond"/>
                <a:hlinkClick r:id="rId1"/>
              </a:rPr>
              <a:t>Narodi </a:t>
            </a:r>
            <a:r>
              <a:rPr b="0" lang="hr-BA" sz="2800" spc="-1" strike="noStrike" u="sng">
                <a:solidFill>
                  <a:srgbClr val="c00000"/>
                </a:solidFill>
                <a:uFillTx/>
                <a:latin typeface="Garamond"/>
                <a:hlinkClick r:id="rId2"/>
              </a:rPr>
              <a:t>nam se kralj nebeski</a:t>
            </a: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, O pastiri čudo novo, Svim na zemlji, U to vrijeme godišta, </a:t>
            </a:r>
            <a:r>
              <a:rPr b="0" lang="hr-BA" sz="2800" spc="-1" strike="noStrike" u="sng">
                <a:solidFill>
                  <a:srgbClr val="c00000"/>
                </a:solidFill>
                <a:uFillTx/>
                <a:latin typeface="Garamond"/>
                <a:hlinkClick r:id="rId3"/>
              </a:rPr>
              <a:t>Radujte se narodi</a:t>
            </a: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, i mnoge dru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800000"/>
                </a:solidFill>
                <a:latin typeface="Garamond"/>
              </a:rPr>
              <a:t>Kole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5267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0000"/>
                </a:solidFill>
                <a:latin typeface="Garamond"/>
              </a:rPr>
              <a:t>Kolede su pjesme vezane uz stari običaj čestitanja. Koledari, čestitari,  obilaze  kuće i koledama nazdravljaju Badnji dan i čestitaju nadolazeći Božić i Novu godinu. </a:t>
            </a:r>
            <a:r>
              <a:rPr b="0" lang="hr-HR" sz="2800" spc="-1" strike="noStrike" u="sng">
                <a:solidFill>
                  <a:srgbClr val="c00000"/>
                </a:solidFill>
                <a:uFillTx/>
                <a:latin typeface="Garamond"/>
                <a:hlinkClick r:id="rId1"/>
              </a:rPr>
              <a:t>Dubrovačka </a:t>
            </a:r>
            <a:r>
              <a:rPr b="0" lang="hr-HR" sz="2800" spc="-1" strike="noStrike" u="sng">
                <a:solidFill>
                  <a:srgbClr val="c00000"/>
                </a:solidFill>
                <a:uFillTx/>
                <a:latin typeface="Garamond"/>
                <a:hlinkClick r:id="rId2"/>
              </a:rPr>
              <a:t>kol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0000"/>
                </a:solidFill>
                <a:latin typeface="Garamond"/>
              </a:rPr>
              <a:t>Koledari mogu nositi i razne glazbene instrumente, najčešće mandoline, gitare i harmonike, čijim sviranjem uljepšavaju kole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5796000" y="2286000"/>
            <a:ext cx="324324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800000"/>
                </a:solidFill>
                <a:latin typeface="Garamond"/>
              </a:rPr>
              <a:t>Tiha noć, sveta no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3640" y="1773360"/>
            <a:ext cx="5267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50021"/>
                </a:solidFill>
                <a:latin typeface="Garamond"/>
              </a:rPr>
              <a:t>    </a:t>
            </a:r>
            <a:r>
              <a:rPr b="0" lang="hr-HR" sz="2800" spc="-1" strike="noStrike">
                <a:solidFill>
                  <a:srgbClr val="800000"/>
                </a:solidFill>
                <a:latin typeface="Garamond"/>
              </a:rPr>
              <a:t>Jedna od najpoznatijih i najizvođenijih božićnih pjesama je Tiha noć, sveta noć u originalu </a:t>
            </a:r>
            <a:r>
              <a:rPr b="0" lang="hr-HR" sz="2800" spc="-1" strike="noStrike" u="sng">
                <a:solidFill>
                  <a:srgbClr val="c00000"/>
                </a:solidFill>
                <a:uFillTx/>
                <a:latin typeface="Garamond"/>
                <a:hlinkClick r:id="rId1"/>
              </a:rPr>
              <a:t>Stille Nacht, heilige Nacht </a:t>
            </a:r>
            <a:r>
              <a:rPr b="0" lang="hr-HR" sz="2800" spc="-1" strike="noStrike">
                <a:solidFill>
                  <a:srgbClr val="800000"/>
                </a:solidFill>
                <a:latin typeface="Garamond"/>
              </a:rPr>
              <a:t>koju je uglazbio Franz Gruber, a stihove je napisao svećenik Josef Mohr. Ova pjesma se izvodi na više od 300 jezika, a za Božić ju pjeva oko dvije milijarde ljud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2"/>
          <a:stretch/>
        </p:blipFill>
        <p:spPr>
          <a:xfrm>
            <a:off x="5724360" y="213372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4400" spc="-1" strike="noStrike">
                <a:solidFill>
                  <a:srgbClr val="800000"/>
                </a:solidFill>
                <a:latin typeface="Garamond"/>
              </a:rPr>
              <a:t>Popularne božićne pjes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Shake it up –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Let it snow – Dean Mart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All I want for Christmas – Mariah Car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Last Christmas – Wham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Do they Know it`s Christ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4400" spc="-1" strike="noStrike">
                <a:solidFill>
                  <a:srgbClr val="800000"/>
                </a:solidFill>
                <a:latin typeface="Garamond"/>
              </a:rPr>
              <a:t>Božić na fil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2316240" cy="2817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2204640"/>
            <a:ext cx="591336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0000"/>
                </a:solidFill>
                <a:latin typeface="Garamond"/>
              </a:rPr>
              <a:t>Bijeli Božić (eng. White Christ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0000"/>
                </a:solidFill>
                <a:latin typeface="Garamond"/>
              </a:rPr>
              <a:t>film je iz 1954. u kojem glavne ul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0000"/>
                </a:solidFill>
                <a:latin typeface="Garamond"/>
              </a:rPr>
              <a:t>tumače Bing Crosby i Danny Kay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0000"/>
                </a:solidFill>
                <a:latin typeface="Garamond"/>
              </a:rPr>
              <a:t>Autor glazbe je Irving Berl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0000"/>
                </a:solidFill>
                <a:latin typeface="Garamond"/>
              </a:rPr>
              <a:t>Najizvođenija pjesma iz filma 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0000"/>
                </a:solidFill>
                <a:latin typeface="Garamond"/>
              </a:rPr>
              <a:t>naslovna pjesma </a:t>
            </a:r>
            <a:r>
              <a:rPr b="0" i="1" lang="hr-HR" sz="2800" spc="-1" strike="noStrike">
                <a:solidFill>
                  <a:srgbClr val="800000"/>
                </a:solidFill>
                <a:latin typeface="Garamond"/>
              </a:rPr>
              <a:t>Bijeli Boži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24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800000"/>
                </a:solidFill>
                <a:latin typeface="Arial"/>
              </a:rPr>
              <a:t>Božićni običaji i simb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Nekad, ne tako davno, ljudi su šetali ulicama i pjevali božićne pjesme, te bi na taj način zaradili ponešto novca ili slatkiš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Već početkom prosinca ukrašavali su svoje kuće i dvorišta kako bi pokazali da se vesele Božić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Simboli Božića su pjesm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     </a:t>
            </a: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ljubav, božićna pšenica 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     </a:t>
            </a: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božićno drv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219640" y="4238640"/>
            <a:ext cx="2232000" cy="1488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800000"/>
                </a:solidFill>
                <a:latin typeface="Arial"/>
              </a:rPr>
              <a:t>Zaključ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800000"/>
                </a:solidFill>
                <a:latin typeface="Garamond"/>
              </a:rPr>
              <a:t>Tijekom izrade ove prezentacije, zaključili smo da glazba ima jako veliku ulogu u vrijeme Božića, a to nam dokazuju koledari kojima je glavni cilj širiti blagdansko raspoloženje i sreću svojim pjevanjem. Također smo shvatili da koliko god mi bili tužni, posebice u doba adventa, oko nas će uvijek biti ljudi koji će nas pokušati oraspoložiti pjesmom, a to je najvažnija uloga glazbe u našem životu, naročito u božićno vrije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Vulić</cp:lastModifiedBy>
  <dcterms:modified xsi:type="dcterms:W3CDTF">2015-12-09T18:03:52Z</dcterms:modified>
  <cp:revision>52</cp:revision>
  <dc:subject/>
  <dc:title>Texto</dc:title>
</cp:coreProperties>
</file>